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3ED5-7D5F-4890-989F-3C280CF8A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98BB-3F66-4F66-8CDF-94001D38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564F-F993-4D52-B136-26D3530F2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8802-D93B-4975-BA89-082B7A6F1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F1A8-82B4-4D2A-91BD-E45281882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C868-F1EF-4C4A-8A5B-367F0B6A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CC30-8A4D-4371-A639-00D66E49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79AD-07B6-4F65-A4E6-FC0076CE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5620-0CDB-4A76-950A-F37BB4DC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526E-0F69-4C65-B7AC-F7F71C0B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A25F-EAD3-44F4-8826-1212C37B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5FFA-A974-4031-95A8-35E6DCFE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CFDA-A87C-4B30-BD20-6633D6F0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8F79-203B-483F-8A9B-997BF110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B794-76CD-4F39-8060-02DD8795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518D-55F6-497F-82B5-07CA6455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1CE4-304F-4C5A-BC54-13758AF63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519C-8009-46E0-B7A9-2A1F7DF9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0EB0-B4AB-4A2B-92F7-D75DFA05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CE8A-1745-4280-A58B-969AC33D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A1D3-6365-43F5-9788-170E4ECF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5789-4FEC-4780-BAE7-90558CD2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D814-C9A0-4D5E-9941-CD4619EE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F2FA-B104-4912-9A3F-62F39E4B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921A-EDCA-4C69-9C27-28F41DBE9506}" type="slidenum">
              <a:rPr b="0" lang="sr-Latn-C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455A-C5B8-4293-BD64-A3B7FD11EDD6}" type="slidenum">
              <a:rPr b="0" lang="sr-Latn-C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471543_brcko1-foto-youtube_ori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Object 6"/>
          <p:cNvGraphicFramePr/>
          <p:nvPr/>
        </p:nvGraphicFramePr>
        <p:xfrm>
          <a:off x="3780000" y="0"/>
          <a:ext cx="1368360" cy="162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80000" y="0"/>
                    <a:ext cx="136836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Rectangle 13"/>
          <p:cNvSpPr/>
          <p:nvPr/>
        </p:nvSpPr>
        <p:spPr>
          <a:xfrm>
            <a:off x="971640" y="1773360"/>
            <a:ext cx="7200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Verdana"/>
              </a:rPr>
              <a:t>THE GOVERNMENT OF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Verdana"/>
              </a:rPr>
              <a:t>BRČKO DISTRICT OF B&amp;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Verdana"/>
              </a:rPr>
              <a:t>FLOODS 2014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6920" y="4652640"/>
            <a:ext cx="76327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mages caused by landslide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M 667,525.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3 landslid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Picture 11" descr="051543"/>
          <p:cNvPicPr/>
          <p:nvPr/>
        </p:nvPicPr>
        <p:blipFill>
          <a:blip r:embed="rId1"/>
          <a:stretch/>
        </p:blipFill>
        <p:spPr>
          <a:xfrm>
            <a:off x="826920" y="0"/>
            <a:ext cx="7490160" cy="42926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DSC_1245"/>
          <p:cNvPicPr/>
          <p:nvPr/>
        </p:nvPicPr>
        <p:blipFill>
          <a:blip r:embed="rId1"/>
          <a:stretch/>
        </p:blipFill>
        <p:spPr>
          <a:xfrm>
            <a:off x="539640" y="1557360"/>
            <a:ext cx="4176720" cy="3240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DSC_1321"/>
          <p:cNvPicPr/>
          <p:nvPr/>
        </p:nvPicPr>
        <p:blipFill>
          <a:blip r:embed="rId2"/>
          <a:stretch/>
        </p:blipFill>
        <p:spPr>
          <a:xfrm>
            <a:off x="4859280" y="1557360"/>
            <a:ext cx="3889440" cy="32400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sanacija klizista satorovoci 624"/>
          <p:cNvPicPr/>
          <p:nvPr/>
        </p:nvPicPr>
        <p:blipFill>
          <a:blip r:embed="rId1"/>
          <a:stretch/>
        </p:blipFill>
        <p:spPr>
          <a:xfrm>
            <a:off x="826920" y="0"/>
            <a:ext cx="7490160" cy="39052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4076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Rehabilitation of landsli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5084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D of B&amp;H Budget: BAM 350,000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or funds (UNDP): BAM 50,000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poplave-u-bih-brcko-od-sinoc-odsjeceno-od-ostatka-zemlje_0_18876"/>
          <p:cNvPicPr/>
          <p:nvPr/>
        </p:nvPicPr>
        <p:blipFill>
          <a:blip r:embed="rId1"/>
          <a:stretch/>
        </p:blipFill>
        <p:spPr>
          <a:xfrm>
            <a:off x="468360" y="0"/>
            <a:ext cx="8351640" cy="450864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11280" y="472392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ccecff"/>
                </a:solidFill>
                <a:latin typeface="Arial"/>
              </a:rPr>
              <a:t>Economic damages: BAM 4,043,000.00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530028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 damage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ies, equipment, products and raw materials: BAM 2,418,816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rect damage (lost profit): BAM 1,624,184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076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Investments in econom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4797000"/>
            <a:ext cx="8686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D of B&amp;H Budget : BAM 300,000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or funds (UNDP): BAM 210,000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Picture 10" descr="luka-brcko-07042011"/>
          <p:cNvPicPr/>
          <p:nvPr/>
        </p:nvPicPr>
        <p:blipFill>
          <a:blip r:embed="rId1"/>
          <a:stretch/>
        </p:blipFill>
        <p:spPr>
          <a:xfrm>
            <a:off x="900000" y="0"/>
            <a:ext cx="7272360" cy="38606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okbrsko-preview"/>
          <p:cNvPicPr/>
          <p:nvPr/>
        </p:nvPicPr>
        <p:blipFill>
          <a:blip r:embed="rId1"/>
          <a:stretch/>
        </p:blipFill>
        <p:spPr>
          <a:xfrm>
            <a:off x="395280" y="0"/>
            <a:ext cx="8353440" cy="40053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95280" y="4076640"/>
            <a:ext cx="835344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mages caused to municipal infrastructure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M 6,638,600.00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supply and sewerage: BAM 2,335,000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id waste: BAM 840,000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lectricity facilities: BA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,463,600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brcko"/>
          <p:cNvPicPr/>
          <p:nvPr/>
        </p:nvPicPr>
        <p:blipFill>
          <a:blip r:embed="rId1"/>
          <a:stretch/>
        </p:blipFill>
        <p:spPr>
          <a:xfrm>
            <a:off x="971640" y="0"/>
            <a:ext cx="7129440" cy="37576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6"/>
          <p:cNvSpPr/>
          <p:nvPr/>
        </p:nvSpPr>
        <p:spPr>
          <a:xfrm>
            <a:off x="971640" y="3933720"/>
            <a:ext cx="74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Investments in municipal infrastructu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900000" y="4581360"/>
            <a:ext cx="763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D of B&amp;H Budg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BAM 1,420,000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280" y="4365720"/>
            <a:ext cx="8640720" cy="2303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Damages caused to housing</a:t>
            </a:r>
            <a:r>
              <a:rPr b="0" lang="hr-HR" sz="3200" spc="-1" strike="noStrike">
                <a:solidFill>
                  <a:srgbClr val="ccecff"/>
                </a:solidFill>
                <a:latin typeface="Arial"/>
              </a:rPr>
              <a:t> fund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: BAM 16,603,000.00</a:t>
            </a:r>
            <a:br>
              <a:rPr sz="32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-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722 individual housing units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1" name="Picture 7" descr="Avdić Rajfa"/>
          <p:cNvPicPr/>
          <p:nvPr/>
        </p:nvPicPr>
        <p:blipFill>
          <a:blip r:embed="rId1"/>
          <a:stretch/>
        </p:blipFill>
        <p:spPr>
          <a:xfrm>
            <a:off x="1258920" y="0"/>
            <a:ext cx="6842160" cy="42926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653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onstruction of individual housing unit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55897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D of B&amp;H Budg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BAM 13,000,000.00 (reconstruction of 722 individual housing unit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Picture 4" descr="Avdić Rajfa (1)"/>
          <p:cNvPicPr/>
          <p:nvPr/>
        </p:nvPicPr>
        <p:blipFill>
          <a:blip r:embed="rId1"/>
          <a:stretch/>
        </p:blipFill>
        <p:spPr>
          <a:xfrm>
            <a:off x="2484360" y="620640"/>
            <a:ext cx="6202440" cy="39607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108360" y="259920"/>
            <a:ext cx="943308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o far BAM 30,658,894.00 has been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invested and provided</a:t>
            </a:r>
            <a:r>
              <a:rPr b="0" lang="hr-HR" sz="32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D of B&amp;H Budget: BAM 18,358,660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ations to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nomina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rojects through the BD of B&amp;H institutions: BAM 440,000.00 from UND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ations provided by citizens: BAM 29,528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ations provided by B&amp;H: BAM 271,609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dit funds: BAM 7,150,000.00 – WBG/ID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dit funds : BAM 3,729,097 - MM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PA funds: BAM 6,800,000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Content Placeholder 3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561440" cy="5346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e map of the flooded and mined area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cecff"/>
                </a:solidFill>
                <a:latin typeface="Arial"/>
              </a:rPr>
              <a:t>2014 FLOOD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7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damages caused by 2014 floods: BAM 53,993,908.00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unt of funds invested and provided so far: BAM 30,658,894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ll necessary to provide: BAM 23,335,014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2637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ccecff"/>
                </a:solidFill>
                <a:latin typeface="Arial"/>
              </a:rPr>
              <a:t>Thank you for atten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otal damage: BAM 53,993,908.00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mages caused to agriculture, forestry and water management: BAM 22,443,505.00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mages caused to road infrastructure: BAM 3,598,278.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mages caused by landslides: BAM 667,525.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onomic damages: BAM 4,043,000.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mages caused to municipal infrastructure: BAM 6,638,600.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mages caused to housing fund: BAM 16,603,000.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6" descr="poplave_Brcko_nasip_probijen_394679875"/>
          <p:cNvPicPr/>
          <p:nvPr/>
        </p:nvPicPr>
        <p:blipFill>
          <a:blip r:embed="rId1"/>
          <a:stretch/>
        </p:blipFill>
        <p:spPr>
          <a:xfrm>
            <a:off x="0" y="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-360" y="5013360"/>
            <a:ext cx="939636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ffffff"/>
                </a:solidFill>
                <a:latin typeface="Arial"/>
              </a:rPr>
              <a:t>Damages caused to agriculture, forestfy and water managment: BAM 22,443,505.00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436572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griculture: BAM 7,441,619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terinary services: BAM 119,028.0</a:t>
            </a: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ater</a:t>
            </a: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nagement: BAM 14,833,950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estry: BAM 48,950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Picture 5" descr="poplava-donja-skakava-642x336"/>
          <p:cNvPicPr/>
          <p:nvPr/>
        </p:nvPicPr>
        <p:blipFill>
          <a:blip r:embed="rId1"/>
          <a:stretch/>
        </p:blipFill>
        <p:spPr>
          <a:xfrm>
            <a:off x="0" y="0"/>
            <a:ext cx="9144000" cy="42210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6" descr="IMG_0685"/>
          <p:cNvPicPr/>
          <p:nvPr/>
        </p:nvPicPr>
        <p:blipFill>
          <a:blip r:embed="rId1"/>
          <a:stretch/>
        </p:blipFill>
        <p:spPr>
          <a:xfrm>
            <a:off x="0" y="0"/>
            <a:ext cx="9144000" cy="378936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324000" y="371628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vestments in rehabilitation and prevention in agriculture, forestry and water manage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Rectangle 8"/>
          <p:cNvSpPr/>
          <p:nvPr/>
        </p:nvSpPr>
        <p:spPr>
          <a:xfrm flipV="1" rot="10797600">
            <a:off x="672480" y="4868640"/>
            <a:ext cx="7856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D of B&amp;H Budget: BAM 7,334,492.7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dit funds: BAM 2,600,000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or funds (UNDP): BAM 80,000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PA funds: BAM 6,800,000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Construction of water-gates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on the Sava River embankment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BD of B&amp;H Budget: BAM 1,108,947.00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464328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Picture 2" descr="C:\Users\Win7\Desktop\LJILJA\ŠTETE OD POPLAVA MAJ , AUGUST\SLIKE UZ PODATKE O ŠTETAMA II\Izgradnja nove ustave na mjestu porušene ustave u Vučilovcu\Izgradnja ustave u Vučilovcu ( 3).JPG"/>
          <p:cNvPicPr/>
          <p:nvPr/>
        </p:nvPicPr>
        <p:blipFill>
          <a:blip r:embed="rId1"/>
          <a:stretch/>
        </p:blipFill>
        <p:spPr>
          <a:xfrm>
            <a:off x="4859280" y="1989000"/>
            <a:ext cx="4033800" cy="3122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2" descr="DSC_1185"/>
          <p:cNvPicPr/>
          <p:nvPr/>
        </p:nvPicPr>
        <p:blipFill>
          <a:blip r:embed="rId2"/>
          <a:stretch/>
        </p:blipFill>
        <p:spPr>
          <a:xfrm>
            <a:off x="179280" y="1989000"/>
            <a:ext cx="4248360" cy="31194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1042920" y="0"/>
            <a:ext cx="7129440" cy="45086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50920" y="4508640"/>
            <a:ext cx="8642160" cy="23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mages caused to road infrastructur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M 3,598,278.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6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 km of road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BAM 1,893,278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 bridge: BAM 1,705,000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C:\Users\ADIKIB~1\AppData\Local\Temp\notesC7A056\Most Islamovac2.jpg"/>
          <p:cNvPicPr/>
          <p:nvPr/>
        </p:nvPicPr>
        <p:blipFill>
          <a:blip r:embed="rId1"/>
          <a:stretch/>
        </p:blipFill>
        <p:spPr>
          <a:xfrm>
            <a:off x="684360" y="1268280"/>
            <a:ext cx="4824360" cy="4537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Investments into road infrastructur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435280" y="1628640"/>
            <a:ext cx="370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D of B&amp;H Budget: BAM  1,331,000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dit funds: BAM 2,000,000.00 from WB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or funds: BAM 100,000.00 from UND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5T08:57:06Z</dcterms:created>
  <dc:creator>Veselin 2</dc:creator>
  <dc:description/>
  <dc:language>en-US</dc:language>
  <cp:lastModifiedBy>operater</cp:lastModifiedBy>
  <dcterms:modified xsi:type="dcterms:W3CDTF">2015-09-30T08:51:48Z</dcterms:modified>
  <cp:revision>52</cp:revision>
  <dc:subject/>
  <dc:title>POPLAVE 2014 VLADA BRČKO DISTRIKTA BIH</dc:title>
</cp:coreProperties>
</file>